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.jpeg" ContentType="image/jpeg"/>
  <Override PartName="/ppt/media/image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4D3B-AF84-4AC0-8733-D1EDFA459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439A-9B78-4D70-A0B1-E69B60966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5E67-22B5-4B52-90EB-F8247267F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E318-A69F-43CF-8C6A-14117E018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FB32-ADD6-4B4D-A7E1-B0EB62799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932-DE17-4418-942D-10F58E1E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276-18BE-428F-8556-88C3D689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795-36D7-43B7-93E2-C731D09C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B0E-1060-4AF6-9605-B4794F61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080-5C9D-4E0D-9869-A918EB84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9F7-F5D9-4658-B426-6653A933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04E-4D05-4B13-A347-4313DA0F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539-BFC1-4A5C-AE49-6A9BD11B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8FD-C89A-4EAF-BBAA-DCD88073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36C-8F50-43F5-BD13-4CA495F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542-7699-46BA-B2B9-1C51EEB5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36F-99B8-4CA2-B632-FC49E293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F37B-4365-49E9-9061-140C09FA1C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AC54-152D-49D5-8811-230E034E1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paracin.rs/index.php?option=com_content&amp;task=view&amp;id=15920&amp;Itemid=254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9A20-04AE-4D42-AD5D-71AA9787E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ПШТИ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АРАЋ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5967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ГРАЂАНСКИ ВОДИЧ КРОЗ ОДЛУКУ О БУЏЕТУ за 20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9</a:t>
            </a: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. год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CA0-5B68-4D35-9E9A-198873BCC3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grb"/>
          <p:cNvPicPr/>
          <p:nvPr/>
        </p:nvPicPr>
        <p:blipFill>
          <a:blip r:embed="rId1"/>
          <a:stretch/>
        </p:blipFill>
        <p:spPr>
          <a:xfrm>
            <a:off x="3924360" y="549360"/>
            <a:ext cx="12668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E814-311F-48D7-AEFC-623822F38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Како се пуни општинска кас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680" y="1001520"/>
            <a:ext cx="828648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Укупни </a:t>
            </a:r>
            <a:r>
              <a:rPr b="1" lang="sr-RS" sz="1700" spc="-1" strike="noStrike">
                <a:solidFill>
                  <a:srgbClr val="000000"/>
                </a:solidFill>
                <a:latin typeface="Calibri"/>
              </a:rPr>
              <a:t>јавни приходи и примања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општине</a:t>
            </a:r>
            <a:r>
              <a:rPr b="0" lang="sr-R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Latn-RS" sz="1700" spc="-1" strike="noStrike">
                <a:solidFill>
                  <a:srgbClr val="000000"/>
                </a:solidFill>
                <a:latin typeface="Calibri"/>
              </a:rPr>
              <a:t>Параћин</a:t>
            </a:r>
            <a:r>
              <a:rPr b="0" lang="sr-R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за 2019. годину износ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Одлуком о буџету општине </a:t>
            </a:r>
            <a:r>
              <a:rPr b="0" lang="sr-R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Latn-RS" sz="1700" spc="-1" strike="noStrike">
                <a:solidFill>
                  <a:srgbClr val="000000"/>
                </a:solidFill>
                <a:latin typeface="Calibri"/>
              </a:rPr>
              <a:t>Параћин</a:t>
            </a:r>
            <a:r>
              <a:rPr b="0" lang="sr-R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 за 2019. годину планирана су средства из буџета општине у износу од</a:t>
            </a:r>
            <a:r>
              <a:rPr b="0" lang="en-GB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1700" spc="-1" strike="noStrike">
                <a:solidFill>
                  <a:srgbClr val="000000"/>
                </a:solidFill>
                <a:latin typeface="Calibri"/>
              </a:rPr>
              <a:t>1.450.000.000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 динара, пренета средства из ранијих година у износу од </a:t>
            </a:r>
            <a:r>
              <a:rPr b="1" lang="sr-RS" sz="1700" spc="-1" strike="noStrike">
                <a:solidFill>
                  <a:srgbClr val="000000"/>
                </a:solidFill>
                <a:latin typeface="Calibri"/>
              </a:rPr>
              <a:t>55.000.000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 динара и средства из осталих извора у износу од </a:t>
            </a:r>
            <a:r>
              <a:rPr b="1" lang="sr-RS" sz="1700" spc="-1" strike="noStrike">
                <a:solidFill>
                  <a:srgbClr val="000000"/>
                </a:solidFill>
                <a:latin typeface="Calibri"/>
              </a:rPr>
              <a:t>377.638.000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 динар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893-01EF-453F-B6C0-C3B5ECABB7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Diagram 5" descr=""/>
          <p:cNvPicPr/>
          <p:nvPr/>
        </p:nvPicPr>
        <p:blipFill>
          <a:blip r:embed="rId1"/>
          <a:stretch/>
        </p:blipFill>
        <p:spPr>
          <a:xfrm>
            <a:off x="987480" y="4443480"/>
            <a:ext cx="7284960" cy="1755720"/>
          </a:xfrm>
          <a:prstGeom prst="rect">
            <a:avLst/>
          </a:prstGeom>
          <a:ln w="0">
            <a:noFill/>
          </a:ln>
        </p:spPr>
      </p:pic>
      <p:sp>
        <p:nvSpPr>
          <p:cNvPr id="98" name="Equals 6"/>
          <p:cNvSpPr/>
          <p:nvPr/>
        </p:nvSpPr>
        <p:spPr>
          <a:xfrm>
            <a:off x="2627280" y="1844640"/>
            <a:ext cx="1047960" cy="979560"/>
          </a:xfrm>
          <a:custGeom>
            <a:avLst/>
            <a:gdLst/>
            <a:ahLst/>
            <a:rect l="l" t="t" r="r" b="b"/>
            <a:pathLst>
              <a:path w="1047750" h="979488">
                <a:moveTo>
                  <a:pt x="138879" y="201775"/>
                </a:moveTo>
                <a:lnTo>
                  <a:pt x="908871" y="201775"/>
                </a:lnTo>
                <a:lnTo>
                  <a:pt x="908871" y="432150"/>
                </a:lnTo>
                <a:lnTo>
                  <a:pt x="138879" y="432150"/>
                </a:lnTo>
                <a:lnTo>
                  <a:pt x="138879" y="201775"/>
                </a:lnTo>
                <a:close/>
                <a:moveTo>
                  <a:pt x="138879" y="547338"/>
                </a:moveTo>
                <a:lnTo>
                  <a:pt x="908871" y="547338"/>
                </a:lnTo>
                <a:lnTo>
                  <a:pt x="908871" y="777713"/>
                </a:lnTo>
                <a:lnTo>
                  <a:pt x="138879" y="777713"/>
                </a:lnTo>
                <a:lnTo>
                  <a:pt x="138879" y="5473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163368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3"/>
          <p:cNvSpPr/>
          <p:nvPr/>
        </p:nvSpPr>
        <p:spPr>
          <a:xfrm>
            <a:off x="3878280" y="1839960"/>
            <a:ext cx="497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  <a:ea typeface="Arial"/>
              </a:rPr>
              <a:t>1.882.638.000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Calibri"/>
                <a:ea typeface="Arial"/>
              </a:rPr>
              <a:t>ди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047-0B2F-4F33-B10E-F5607DEF0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Шта су приходи и примања буџе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5" descr=""/>
          <p:cNvPicPr/>
          <p:nvPr/>
        </p:nvPicPr>
        <p:blipFill>
          <a:blip r:embed="rId1"/>
          <a:stretch/>
        </p:blipFill>
        <p:spPr>
          <a:xfrm>
            <a:off x="457200" y="1127160"/>
            <a:ext cx="8564400" cy="55976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0562-E204-402E-981F-8BA0DE6E03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3A10-C723-4237-82C6-C1F8C6181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0680" y="247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труктура планираних прихода и примања за 2019. год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E508-1BCA-4679-BA37-24C9F60C0E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Diagram 4" descr=""/>
          <p:cNvPicPr/>
          <p:nvPr/>
        </p:nvPicPr>
        <p:blipFill>
          <a:blip r:embed="rId1"/>
          <a:stretch/>
        </p:blipFill>
        <p:spPr>
          <a:xfrm>
            <a:off x="1262160" y="1414440"/>
            <a:ext cx="66625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8339-427A-42E8-B3C6-0277954F8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Структура планираних прихода и примања за 2019. годин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3E9F-1E5B-4B28-9F28-14AFCE9BE0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116000" y="1341360"/>
          <a:ext cx="6840720" cy="42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341360"/>
                    <a:ext cx="6840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A1CA-1CF6-4210-B82C-BAB5763F1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Шта се променило у односу на 2018. годин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6360" y="1509480"/>
            <a:ext cx="82296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купни приходи и примања наше општине у 2019. години (извор финансирања 01 – средства из буџета) су се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овећали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 односу на последњу измену Одлуке о буџету за 2018. годину за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 70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000.000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нара, односно за</a:t>
            </a:r>
            <a:r>
              <a:rPr b="0" lang="sr-R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5,07</a:t>
            </a:r>
            <a:r>
              <a:rPr b="1" lang="sr-R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7640" y="5013000"/>
            <a:ext cx="68518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ансфери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у остали на истом ниво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835280" y="2708280"/>
            <a:ext cx="68515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66ff"/>
                </a:solidFill>
                <a:latin typeface="Calibri"/>
                <a:ea typeface="Arial"/>
              </a:rPr>
              <a:t>Непорески приходи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су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ећани з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.00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 дин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66ff"/>
                </a:solidFill>
                <a:latin typeface="Arial"/>
                <a:ea typeface="Arial"/>
              </a:rPr>
              <a:t>Порески приход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су повећани за 4.500.000 дин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66ff"/>
                </a:solidFill>
                <a:latin typeface="Calibri"/>
                <a:ea typeface="Arial"/>
              </a:rPr>
              <a:t>Примања од продаје нефинансијске имовине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су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ећана з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000.00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 дин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971640" y="2997360"/>
            <a:ext cx="485640" cy="1512720"/>
          </a:xfrm>
          <a:prstGeom prst="upArrow">
            <a:avLst>
              <a:gd name="adj1" fmla="val 50000"/>
              <a:gd name="adj2" fmla="val 77872"/>
            </a:avLst>
          </a:prstGeom>
          <a:solidFill>
            <a:srgbClr val="3366ff"/>
          </a:soli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F082-6EB4-44F0-80DC-F35672E824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754B-BC70-4F40-BBB6-6038E32B2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На шта се троше јавна средств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8708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Буџет мора бити у равнотежи, што значи да расходи морају одговарати приходима. Укупни планирани расходи и издаци у 2019. години из буџета износе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Calibri"/>
              </a:rPr>
              <a:t>РАСХОДИ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Расходи представљају све трошкове општине за плате буџетских корисника, набавку роба и услуга, субвенције, дотације и трансфере, социјалну помоћ и остале трошкове које општина обезбеђује без директне и непосредне накнаде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Calibri"/>
              </a:rPr>
              <a:t>ИЗДАЦИ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 представљају трошкове изградње или инвестиционог одржавања већ постојећих објеката, набавку земљишта, машина и опр</a:t>
            </a:r>
            <a:r>
              <a:rPr b="0" lang="sr-Latn-RS" sz="17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ме неопходне за рад буџетских корисник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Calibri"/>
              </a:rPr>
              <a:t>РАСХОДИ И ИЗДАЦИ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морају се исказивати на законом прописан начин, односно морају се исказивати: по </a:t>
            </a:r>
            <a:r>
              <a:rPr b="0" i="1" lang="sr-RS" sz="1700" spc="-1" strike="noStrike">
                <a:solidFill>
                  <a:srgbClr val="000000"/>
                </a:solidFill>
                <a:latin typeface="Calibri"/>
              </a:rPr>
              <a:t>програмима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 који показују колико се троши за извршавање основних надлежности и стратешких циљева општине; по </a:t>
            </a:r>
            <a:r>
              <a:rPr b="0" i="1" lang="sr-RS" sz="1700" spc="-1" strike="noStrike">
                <a:solidFill>
                  <a:srgbClr val="000000"/>
                </a:solidFill>
                <a:latin typeface="Calibri"/>
              </a:rPr>
              <a:t>основној намени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која показује за коју врсту трошка се средства издвајају; по </a:t>
            </a:r>
            <a:r>
              <a:rPr b="0" i="1" lang="sr-RS" sz="1700" spc="-1" strike="noStrike">
                <a:solidFill>
                  <a:srgbClr val="000000"/>
                </a:solidFill>
                <a:latin typeface="Calibri"/>
              </a:rPr>
              <a:t>функцији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 која показује функционалну намену за одређену област и по </a:t>
            </a:r>
            <a:r>
              <a:rPr b="0" i="1" lang="sr-RS" sz="1700" spc="-1" strike="noStrike">
                <a:solidFill>
                  <a:srgbClr val="000000"/>
                </a:solidFill>
                <a:latin typeface="Calibri"/>
              </a:rPr>
              <a:t>корисницима буџета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што показује организацију рада општин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ABB0-2E01-4F6E-9F7D-37DEC89C67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: Rounded Corners 23"/>
          <p:cNvSpPr/>
          <p:nvPr/>
        </p:nvSpPr>
        <p:spPr>
          <a:xfrm>
            <a:off x="2843280" y="2133720"/>
            <a:ext cx="338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1.882.638.000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ди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9DB-7DC4-4C53-9AC3-D887EE5E5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3AEA-88D0-49D3-A8F3-39C1009A46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609480" y="26352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Шта су расходи и издаци буџе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Content Placeholder 5" descr=""/>
          <p:cNvPicPr/>
          <p:nvPr/>
        </p:nvPicPr>
        <p:blipFill>
          <a:blip r:embed="rId1"/>
          <a:stretch/>
        </p:blipFill>
        <p:spPr>
          <a:xfrm>
            <a:off x="476280" y="1255680"/>
            <a:ext cx="8319960" cy="559584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DF9B-423F-496D-9CC7-2CBF78A6B6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4290-1AB6-4664-A891-77EEE0EB0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Структура планираних расхода и издатака буџета за 2019. годин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4" descr=""/>
          <p:cNvPicPr/>
          <p:nvPr/>
        </p:nvPicPr>
        <p:blipFill>
          <a:blip r:embed="rId1"/>
          <a:stretch/>
        </p:blipFill>
        <p:spPr>
          <a:xfrm>
            <a:off x="476280" y="1200240"/>
            <a:ext cx="8229600" cy="509112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C8E-BF74-4C37-BE20-92EC6C268A1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AE01-2333-4911-B417-0B68A0B5F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7EE-18CD-4430-95AC-C9734E88B5B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Структура планираних расхода и издатака буџета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за 201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. годин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419040" y="1298520"/>
            <a:ext cx="82677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7581-A097-4C15-AAEF-0AF65EA08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620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Шта се променило у односу на 20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 годин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0960" y="109224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купни трошкови наше општине у 20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 години (извор финансирања 01 – средства из буџета) су се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повећал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у односу на последњу измену Одлуке о буџету за 20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 годину з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0.000.00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инара, односно за</a:t>
            </a:r>
            <a:r>
              <a:rPr b="0" lang="sr-R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5,07</a:t>
            </a: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050560" y="2565000"/>
            <a:ext cx="68518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ff0000"/>
                </a:solidFill>
                <a:latin typeface="Arial"/>
                <a:ea typeface="Arial"/>
              </a:rPr>
              <a:t>Дотације и трансфери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су смањени за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4.308.240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 динара</a:t>
            </a:r>
            <a:r>
              <a:rPr b="1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ff0000"/>
                </a:solidFill>
                <a:latin typeface="Arial"/>
              </a:rPr>
              <a:t>Расходи за социјалну заштиту</a:t>
            </a:r>
            <a:r>
              <a:rPr b="0" lang="sr-R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су смањени за 1.065.000 динар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ff0000"/>
                </a:solidFill>
                <a:latin typeface="Arial"/>
                <a:ea typeface="Arial"/>
              </a:rPr>
              <a:t>Остали расходи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су смањени за 4.139.559 динар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80960" y="4219560"/>
            <a:ext cx="75279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ff"/>
                </a:solidFill>
                <a:latin typeface="Arial"/>
                <a:ea typeface="Arial"/>
              </a:rPr>
              <a:t>Расходи за запослене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су повећани су за 17.312.000 динар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ff"/>
                </a:solidFill>
                <a:latin typeface="Arial"/>
                <a:ea typeface="Arial"/>
              </a:rPr>
              <a:t>Коришћење роба и услуга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су повећани за</a:t>
            </a:r>
            <a:r>
              <a:rPr b="0" lang="sr-RS" sz="1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19.632.851 динара</a:t>
            </a:r>
            <a:r>
              <a:rPr b="1" lang="sr-RS" sz="1700" spc="-1" strike="noStrike">
                <a:solidFill>
                  <a:srgbClr val="000000"/>
                </a:solidFill>
                <a:latin typeface="Arial"/>
                <a:ea typeface="SimSu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ff"/>
                </a:solidFill>
                <a:latin typeface="Arial"/>
                <a:ea typeface="Arial"/>
              </a:rPr>
              <a:t>Средства резерве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у повећана з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5.365.548 дин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ff"/>
                </a:solidFill>
                <a:latin typeface="Arial"/>
                <a:ea typeface="Arial"/>
              </a:rPr>
              <a:t>Капитални издаци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ћани за 26.487.400 дина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ff"/>
                </a:solidFill>
                <a:latin typeface="Arial"/>
                <a:ea typeface="Arial"/>
              </a:rPr>
              <a:t>Отплата главнице и камате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ћани за 10.715.000 дина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023840" y="2820960"/>
            <a:ext cx="486000" cy="977760"/>
          </a:xfrm>
          <a:prstGeom prst="downArrow">
            <a:avLst>
              <a:gd name="adj1" fmla="val 50000"/>
              <a:gd name="adj2" fmla="val 50296"/>
            </a:avLst>
          </a:prstGeom>
          <a:solidFill>
            <a:srgbClr val="ff0000"/>
          </a:soli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8088480" y="4376880"/>
            <a:ext cx="485640" cy="917280"/>
          </a:xfrm>
          <a:prstGeom prst="upArrow">
            <a:avLst>
              <a:gd name="adj1" fmla="val 50000"/>
              <a:gd name="adj2" fmla="val 47220"/>
            </a:avLst>
          </a:prstGeom>
          <a:solidFill>
            <a:srgbClr val="3366ff"/>
          </a:soli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55DF-D9B2-4E7A-8DD9-4912A74087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B0CD-377E-4650-8F54-777A48BB3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746B-D8DF-497D-9C3B-DC371F3113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Резултат слика за paracin"/>
          <p:cNvPicPr/>
          <p:nvPr/>
        </p:nvPicPr>
        <p:blipFill>
          <a:blip r:embed="rId1"/>
          <a:stretch/>
        </p:blipFill>
        <p:spPr>
          <a:xfrm>
            <a:off x="684360" y="69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Резултат слика за sisevac paracin"/>
          <p:cNvPicPr/>
          <p:nvPr/>
        </p:nvPicPr>
        <p:blipFill>
          <a:blip r:embed="rId2"/>
          <a:stretch/>
        </p:blipFill>
        <p:spPr>
          <a:xfrm>
            <a:off x="3780000" y="620640"/>
            <a:ext cx="2409840" cy="18954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13782220_589662134549623_6940487383831942400_n"/>
          <p:cNvPicPr/>
          <p:nvPr/>
        </p:nvPicPr>
        <p:blipFill>
          <a:blip r:embed="rId3"/>
          <a:stretch/>
        </p:blipFill>
        <p:spPr>
          <a:xfrm>
            <a:off x="6804000" y="765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Резултат слика за grza paracin"/>
          <p:cNvPicPr/>
          <p:nvPr/>
        </p:nvPicPr>
        <p:blipFill>
          <a:blip r:embed="rId4"/>
          <a:stretch/>
        </p:blipFill>
        <p:spPr>
          <a:xfrm>
            <a:off x="611280" y="2852640"/>
            <a:ext cx="2592360" cy="194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Резултат слика за paracin"/>
          <p:cNvPicPr/>
          <p:nvPr/>
        </p:nvPicPr>
        <p:blipFill>
          <a:blip r:embed="rId5"/>
          <a:stretch/>
        </p:blipFill>
        <p:spPr>
          <a:xfrm>
            <a:off x="3492360" y="3213000"/>
            <a:ext cx="2592360" cy="186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Резултат слика за paracin"/>
          <p:cNvPicPr/>
          <p:nvPr/>
        </p:nvPicPr>
        <p:blipFill>
          <a:blip r:embed="rId6"/>
          <a:stretch/>
        </p:blipFill>
        <p:spPr>
          <a:xfrm>
            <a:off x="6372360" y="3284640"/>
            <a:ext cx="252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491D-FD72-49D1-BD45-52985583A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880" y="115560"/>
            <a:ext cx="77882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Расходи буџета по програм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2261-1C15-49B6-BD02-FC854761A1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907920"/>
          <a:ext cx="8208720" cy="5318280"/>
        </p:xfrm>
        <a:graphic>
          <a:graphicData uri="http://schemas.openxmlformats.org/drawingml/2006/table">
            <a:tbl>
              <a:tblPr/>
              <a:tblGrid>
                <a:gridCol w="4660920"/>
                <a:gridCol w="2520720"/>
                <a:gridCol w="1027080"/>
              </a:tblGrid>
              <a:tr h="63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зив прогр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редства из Одлуке о буџету за 2019. годину  (износ у динари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  буџета по програ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1. Становање, урбанизам и просторно планир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0.613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2. Комуналне дела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.222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4. Развој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.81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5. Пољопривреда и рурални разво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6. Заштита животне сред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7. Организација саобраћаја и саобраћајна инфраструк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3.153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8. Предшколско васпитање и образо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4.4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9. Основно образовање и васпит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7.37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10. Средње образовање и васпит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46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11. Социјална и дечија зашт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9.99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12. Здравствена зашт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.11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13. Развој културе и информис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1.572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14. Развој спорта и омлад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4.198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15. Опште услуге локалне самоуправ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1.73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грам 16. Политички систем локалне самоупра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6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купни расходи по програм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882.638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6793-2CC1-4E64-8115-FD94417EB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100" spc="-1" strike="noStrike">
                <a:solidFill>
                  <a:srgbClr val="000000"/>
                </a:solidFill>
                <a:latin typeface="Calibri"/>
              </a:rPr>
              <a:t>Структура расхода по буџетским програмим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52B0-F44B-4BB3-902F-CC14E21BEC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4185-501E-4ED2-A2B8-737901BEA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Расходи буџета расподељени по директним и индиректним буџетским корисниц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341360"/>
          <a:ext cx="7632720" cy="5361120"/>
        </p:xfrm>
        <a:graphic>
          <a:graphicData uri="http://schemas.openxmlformats.org/drawingml/2006/table">
            <a:tbl>
              <a:tblPr/>
              <a:tblGrid>
                <a:gridCol w="576000"/>
                <a:gridCol w="4429080"/>
                <a:gridCol w="1641600"/>
                <a:gridCol w="986040"/>
              </a:tblGrid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. б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зив </a:t>
                      </a: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уџетског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орис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редства из Одлуке о буџету за 20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. годину  (износ у динари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  буџета по корис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пштина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ник општ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инск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ећ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инско правобранилаш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урбанизам, финансије, скупштинске и опште посл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.7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не зајед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е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.3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ње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чајни музеј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ка ‘’Др. Вићентије Ракић’’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7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турни центар ‘’Параћин’’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 омладине ‘’Параћин’’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8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ориште ‘’Параћин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Ц ‘’7 Јули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Ц ‘’Јединство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Ц ‘’Борац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6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а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цијални 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.9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школска установа ‘’Бамби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 здрав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0143-B81B-4E09-A8B3-1C811C6D34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D8C5-4835-4016-A600-8C559AD74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74680"/>
          <a:ext cx="8229600" cy="2330280"/>
        </p:xfrm>
        <a:graphic>
          <a:graphicData uri="http://schemas.openxmlformats.org/drawingml/2006/table">
            <a:tbl>
              <a:tblPr/>
              <a:tblGrid>
                <a:gridCol w="620640"/>
                <a:gridCol w="4776840"/>
                <a:gridCol w="1768320"/>
                <a:gridCol w="1063800"/>
              </a:tblGrid>
              <a:tr h="77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. б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зив 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уџетског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орис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редства из Одлуке о буџету за 20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. годину  (износ у динари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  буџета по корис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от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уристичка организација општине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инвестиције и одрживи разво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3.98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 за пољопривреду и локални економски разво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послове органа општ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друштвене дела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 К У П Н 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2.63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BEBB-0C91-4CA6-B91C-03B10C6A4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5640" y="981000"/>
          <a:ext cx="7488360" cy="5691240"/>
        </p:xfrm>
        <a:graphic>
          <a:graphicData uri="http://schemas.openxmlformats.org/drawingml/2006/table">
            <a:tbl>
              <a:tblPr/>
              <a:tblGrid>
                <a:gridCol w="4148280"/>
                <a:gridCol w="982440"/>
                <a:gridCol w="1179720"/>
                <a:gridCol w="1177920"/>
              </a:tblGrid>
              <a:tr h="503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зив прој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ланирана сре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знос у динарима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1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1224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2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радња објеката на парцелама индустријског парка  у индустријској зони ’’Змич’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изградња улица у сеоским М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1.годин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2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изградње сеоских улица 2018.-2020.годи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73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717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изградње канализације у граду 2018-2020.годин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4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г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канализације у сеоским МЗ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4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72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изгр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нализације у сеоским 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З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20.годин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2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уређења трга са фонтаном у центру гра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ин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01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99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 реконструкције градских улица 2018-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годин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73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ре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цела за изградњу индустријског парка у индустријској зони ‘’Змич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изградње Културног Центра 2018-2019.год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израде техничке документације за реконструкцију мостова 2018-2019.годин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5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израде техничке документ. за изградњу и рекон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бјекта опште болнице и дома здравља 2018-2019. г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64C8-262C-4B8B-83DE-F13E8205B0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јважнији капитални пројек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87F1-4A93-497D-A2D8-A90034C71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јважнији пројект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 интереса за локалну заједни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52DB-417C-4A83-912D-A40529528E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341360"/>
          <a:ext cx="7751880" cy="4684680"/>
        </p:xfrm>
        <a:graphic>
          <a:graphicData uri="http://schemas.openxmlformats.org/drawingml/2006/table">
            <a:tbl>
              <a:tblPr/>
              <a:tblGrid>
                <a:gridCol w="4294080"/>
                <a:gridCol w="1017720"/>
                <a:gridCol w="1219320"/>
                <a:gridCol w="1220760"/>
              </a:tblGrid>
              <a:tr h="517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зив прој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1224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ланирана сре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знос у динарима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1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1224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2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3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ђународни сајам привреде у Параћин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6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52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стовданске свечаности и Новогодишњи концер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4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1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 вин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24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61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ичко лето и музички прогр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7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7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427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стивал фолклор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турно лет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Ђачка ликовна колониј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5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 тини фес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стивал дечијих сцен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шка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цијалној инклузији Рома и Ромки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89AC-0E8A-45EB-AC1A-9E8C72BC5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 крају желимо да Вам се захвалимо што сте издвојили време за читање ове презентације буџе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колико сте заинтересовани да сагледате у целини Одлуку о буџету општине Параћин</a:t>
            </a:r>
            <a:r>
              <a:rPr b="0" lang="sr-R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 2019. годину, исту можете преузети на следећем линку интернет странице општине Параћи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paracin.rs/index.php?option=com_content&amp;task=view&amp;id=15920&amp;Itemid=2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3791-704F-4DCE-AA02-E0B81CBF9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116000" y="476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95b3d7"/>
                </a:solidFill>
                <a:latin typeface="Calibri"/>
              </a:rPr>
              <a:t>САДРЖА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971640" y="1268280"/>
            <a:ext cx="7537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Ко се финансира из буџ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о настаје буџет општи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Појам буџ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Ко учествује у буџетском проце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основу чега се доноси буџ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о се пуни општинска ка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у приходи и примања буџ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а планираних прихода и примања за 20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. г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е променило у односу на 20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. год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На шта се троше јавна средст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у расходи и издаци буџ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а планираних расхода и издатака за 20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. г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е променило у односу на 20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. год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ходи буџета по програм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ходи буџета расподељени по директним и индиректним буџетским корисниц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Најважнији капитални прој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Најважнији пројект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од интереса за локалну зајед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F391-A78F-49F1-8074-138FCBAF31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E5CB-D9C3-4178-A4BB-0A89918BD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08BF-48C7-410A-8989-11D3D60FDA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80880" y="35244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Драги суграђани и суграђан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 сврха документа који је пред вама јесте да на што једноставнији и разумљивији начин објасни у које сврхе се користе јавни ресурси да би се задовољиле потребе грађ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Грађански буџет представља сажет и јасан приказ Одлуке о буџету општине</a:t>
            </a:r>
            <a:r>
              <a:rPr b="0" lang="sr-Latn-RS" sz="1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Параћин</a:t>
            </a:r>
            <a:r>
              <a:rPr b="0" lang="sr-RS" sz="1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за 20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. годину, која је по својој форми веома обимна и тешка за разумевање због специфичних појмова и класификација које је ч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ако је немогуће објаснити целокупан буџет у овако краткој форми, искрено се надамо да ћемо на овај начин успети да вас информишемо о начину прикупљања јавних средстава и остваривања прихода и примања буџета општине, као и о начину планирања, расподеле и трошења буџетских средст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оз овај транспарентан приступ настојимо да унапредимо разумевање и интересовање наших суграђана за локалне финансије, а у перспективи очекујемо и сарадњу локалне самоуправе и житеља у заједничком постављању циљева, дефинисању приоритета и планирању развоја наше општ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дседник општи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аша Пауновић, дипл. инг. е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CD43-FC6B-4B10-8458-762B5D053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о се финансира из буџ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иректни корисници буџетских средста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Скупштина општи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Председник општи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Општинско већ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Општинско правобранилаш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Управа за урбанизам, финансије, скупштинске и опште послов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Управа за инвестиције и одрживи разво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Управа за пољопривреду и локални економски разво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Управа за послове органа општи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Управа за друштвене делат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ндиректни корисници буџетских средста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Месне заједниц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Завичајни музеј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Библиотека ‘’Др. Вићентије Ракић’’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Културни центар ‘’Параћин’’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Дом омладине ‘’Параћин’’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Позориште ‘’Параћин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СРЦ ‘’7 Јули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СРЦ ‘’Јединство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СРЦ ‘’Борац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Предшколска установа ‘’Бамби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 Туристичка организација општине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3D95-DEF7-4E24-9B08-E85C87452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Остали корисници јавних средст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 Образовне установе ( основне и средње школе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 Здравствене установе ( Дом здравља и Апотек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 Социјалне установе ( Центар за социјални ра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 Непрофитне организације (удружења грађана, невладине организације, ит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E6F6-EA78-4749-82B7-1BDAD1F08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101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ако настаје буџет</a:t>
            </a:r>
            <a:r>
              <a:rPr b="1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општин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7900-AAEF-4DCA-9742-6C0D716C39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25440" y="1339920"/>
            <a:ext cx="84931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Calibri"/>
                <a:ea typeface="Arial"/>
              </a:rPr>
              <a:t>БУЏЕТ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Arial"/>
              </a:rPr>
              <a:t>општине је правни документ који утврђује план прихода и примања и расхода и издатака општине за буџетску, односно календарску годин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Arial"/>
              </a:rPr>
              <a:t>То значи да овај документ представља предвиђање колико ће се новца од грађана и привреде у току једне године прикупити и на који начин ће се тај новац троши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Arial"/>
              </a:rPr>
              <a:t>Из општинског буџета се током године плаћају све обавезе локалне самоуправе. Исто тако у буџет се сливају приходи из којих се подмирују те обавез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Arial"/>
              </a:rPr>
              <a:t>Председник општине и локална управа спроводе општинску политику, а главна полуга те политике и развоја је управо буџет општин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Arial"/>
              </a:rPr>
              <a:t>Приликом дефинисања овог, за општину </a:t>
            </a:r>
            <a:r>
              <a:rPr b="0" lang="sr-Latn-RS" sz="1700" spc="-1" strike="noStrike">
                <a:solidFill>
                  <a:srgbClr val="000000"/>
                </a:solidFill>
                <a:latin typeface="Calibri"/>
                <a:ea typeface="Arial"/>
              </a:rPr>
              <a:t>Параћин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Arial"/>
              </a:rPr>
              <a:t>најважнијег документа, руководе се законским оквиром и прописима, стратешким приоритетима развоја и другим елементим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Arial"/>
              </a:rPr>
              <a:t>Реалност је таква да постоје велике разлике између жеља и могућности, тако да креирање буџета подразумева утврђивање приоритета и прављење компроми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B197-20A8-4640-8C5A-EC916B5E6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Ко учествује у буџетском процес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D7B5-9F64-4ECA-865C-C0CB3859DA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Diagram 3" descr=""/>
          <p:cNvPicPr/>
          <p:nvPr/>
        </p:nvPicPr>
        <p:blipFill>
          <a:blip r:embed="rId1"/>
          <a:stretch/>
        </p:blipFill>
        <p:spPr>
          <a:xfrm>
            <a:off x="963720" y="1407960"/>
            <a:ext cx="6827760" cy="41212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6156360" y="3429000"/>
            <a:ext cx="122400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ffffff"/>
                </a:solidFill>
                <a:latin typeface="Calibri"/>
              </a:rPr>
              <a:t>Грађани и њихова удружењ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5867280" y="4869000"/>
            <a:ext cx="1081080" cy="9363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ffffff"/>
                </a:solidFill>
                <a:latin typeface="Calibri"/>
              </a:rPr>
              <a:t>Јавна предузећ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247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E066-416B-4775-82A3-B92F5558F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6680" y="490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На основу чега се доноси буџет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AE3-6DED-40AD-8506-7F74F73535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Diagram 3" descr=""/>
          <p:cNvPicPr/>
          <p:nvPr/>
        </p:nvPicPr>
        <p:blipFill>
          <a:blip r:embed="rId1"/>
          <a:stretch/>
        </p:blipFill>
        <p:spPr>
          <a:xfrm>
            <a:off x="542880" y="1633680"/>
            <a:ext cx="77472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tojkovici</dc:creator>
  <dc:description/>
  <dc:language>en-US</dc:language>
  <cp:lastModifiedBy>jkostic</cp:lastModifiedBy>
  <cp:lastPrinted>2018-01-29T14:26:33Z</cp:lastPrinted>
  <dcterms:modified xsi:type="dcterms:W3CDTF">2019-04-03T10:50:25Z</dcterms:modified>
  <cp:revision>462</cp:revision>
  <dc:subject/>
  <dc:title>ОПШТИНА КОВ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916232</vt:r8>
  </property>
  <property fmtid="{D5CDD505-2E9C-101B-9397-08002B2CF9AE}" pid="3" name="_AuthorEmail">
    <vt:lpwstr>vladan_miletic@paracin.rs</vt:lpwstr>
  </property>
  <property fmtid="{D5CDD505-2E9C-101B-9397-08002B2CF9AE}" pid="4" name="_AuthorEmailDisplayName">
    <vt:lpwstr>Vladan Miletic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